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9FE-9961-4BE5-8A0B-498D742E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417-A180-4BED-8CC3-18ED9174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433-698C-406C-A142-E9AA99B6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666-26E5-4476-8AAC-E61BD54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DB19-DFEA-4286-9034-A80E550D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2500-D0BC-4EFD-B712-A786BAD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B4C-9AFF-4124-B22C-1DCD347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479-3C39-48DF-BF0E-CCE420A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CE4D-D267-4557-8E4C-6F313E9D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AB44-960B-4C6F-8163-F43A7B08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55E8-AB65-41DA-8182-6AEB3F7E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610-A9D9-434E-88B5-E350C9C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C39-1B65-43EA-A920-4C36B8A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59AF-4D11-493C-8329-B8DA849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54DE-79FB-497F-8A32-F0A66878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CA6-204F-4009-9F97-B93D20C6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361F-65D7-4F09-86EB-A07A6234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E63-4DD8-482F-942C-545F33B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604-DBCC-4373-8482-D14A7D1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A86-31FA-4BAA-A294-60B22331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B3B-CB12-40B4-A6CC-7C89238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36C-646A-42DE-887F-BEA61516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226-C1B7-4A26-8588-35DF914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05B-2931-4C8D-9704-38E7A4A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182E-3745-4792-AD60-05C66B24B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14F9-0646-4629-9296-2506904F1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080" y="463680"/>
            <a:ext cx="7759440" cy="907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EEO 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- a fair go for al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awareness - part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orts of changes have happened in society to make us more aware of the need for EE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have these changes in society affected the workpl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groups in society have suffered discrimination in the past? H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ur thinking kept up with the changes in socie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discrimination be wastefu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you understand the difference between Anti-discrimination and Affirmative A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is covered by Anti-discrimination law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discrimination always intention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would sexual and a racial discrimination happen in the following situations: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a job is advertis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deciding the necessary qualifications/crit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viewing &amp; deciding who get the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ing job titles and classif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ranging training courses for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ting up paths of promotion in the compa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you think of examples of policies/practices which make it harder for women to get a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6840" y="277920"/>
            <a:ext cx="7759800" cy="93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Book Antiqua"/>
              </a:rPr>
              <a:t>EEO - a fair go for 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ould you describe sexual harassm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sexual harassment only apply to men pressuring wom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women get a hard time when they enter traditionally male jo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you think racial discrimination occurs in the workplace in the 199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you believe that there are jobs that can not be done equally done by women and m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96840" y="277920"/>
            <a:ext cx="7759800" cy="93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Book Antiqua"/>
              </a:rPr>
              <a:t>EEO - a fair go for 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o focus on the nature of sexual ha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 would you describe the feelings and the reaction of the women in this vide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oes it make a difference if the behaviour happens once or is repeat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 would you explain sexual harassment to people in your workpla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s a supervisor, what responsibilities do you have to prevent sexual harassm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o improve the organisations response to sexual harassment, your group should draft a Policy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996840" y="353880"/>
            <a:ext cx="7759800" cy="63036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Book Antiqua"/>
              </a:rPr>
              <a:t>Leave me alone - sexual harass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14:43:36Z</dcterms:created>
  <dc:creator>Illawarra Institute of Technology</dc:creator>
  <dc:description/>
  <dc:language>en-US</dc:language>
  <cp:lastModifiedBy>John McDonald</cp:lastModifiedBy>
  <cp:lastPrinted>1998-08-17T14:53:44Z</cp:lastPrinted>
  <dcterms:modified xsi:type="dcterms:W3CDTF">2000-04-28T03:41:28Z</dcterms:modified>
  <cp:revision>4</cp:revision>
  <dc:subject/>
  <dc:title>EEO - a fair go for all</dc:title>
</cp:coreProperties>
</file>